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C1C-C450-4685-A0B9-381ED551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9A4-0DCE-421C-B844-3F2492BE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8C2-F0D4-4AA1-9C30-1C7D785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5C5-2CCB-4305-898D-EFF56119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0D8-73D0-4498-BDB1-78B47D0F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438-12ED-49FC-AE91-4FD3FA6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4E6-F044-44CB-8439-5E1F9A8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A0A-5953-4FE5-8D9B-3C5570C4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EF0-D12F-423E-9243-F78D9A5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008-005F-49F6-9410-A6DC2EC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8A9-B166-448F-B383-5CCF5C69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292-34C7-45BB-9006-96A44CF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062-6AD5-4FD6-AA73-7ABB4A6D62D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7EA5-F3B3-432B-8A7B-2100DBB94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F Project B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Architecture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9DC-F61D-475D-9047-DF9074E0F0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I (CPU Resource Manage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itori Sugaya (Waseda Univers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4E6-D7B9-4EEB-8E2C-432E690C81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boree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atoru 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report of presentations and projects from recent CELF regional jamborees in Ja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JapanTechnicalJamboree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TechnicalJamboree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TechnicalJamboree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B14-4E21-499D-92DD-15C46D8B09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CELF members' project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SS projects are CELF members working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ProjectList [Unfortunately, out of date at the momen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how to connect these projects back to original OSS proje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EFB-5881-4557-8348-F4B62D0238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CELF “Challenge”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for creating a list of technology projects for CELF members to focus on for th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CELF push the projects forward and get inter-company collab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make sure to follow Open Source practices, so that non-members can participate and influence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make sure people understand it’s not an unfunded request for work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0B6-7EC3-44AD-87C6-AF38371C0A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jects deserve focused CELF attention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yone need hardware that CELF or it's members can prov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we do a "hackfest"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0E8-E14B-4B7B-96A9-508754D3A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ie CELF Initiativ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F Test Lab demon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 Weight Siz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I (CPU Resource Manag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boree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ELF members' projec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CELF "Challenge"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11B-DD03-4372-B321-43DC1CC65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ie CELF Initiative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nitiatives and projects that CELF is directly managing and fu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-tiny mainlining, and bloatwatch (via Selenic Consulting - Matt Mack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API/DirectFB integration (via Dennis Kro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F Open Test Lab (via Nomad Global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Linux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158-ED2B-4E5A-AE5F-064F9C4F94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F Test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resource for CELF members and wid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multi-platform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ly regressio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test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board usage via remot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493-7859-458E-B631-AB0823223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F Test Lab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n architecture for host-target style testing (not found in other test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ab infrastructure is now s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OpenEmbedded distribution from scr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can be scheduled and run remotely on multiple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P is currently the only “real”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very few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011-47A6-4773-AE18-5731391D0F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2210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62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886040" y="276120"/>
            <a:ext cx="5371920" cy="630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734-D3EF-42AB-8970-8F9519F72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Lab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of running a test in the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ing a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h and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109-E96A-432D-93F9-B4DA72EB0F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tion system for interactiv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populate tests specific to CELF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ore systems - Satellite nodes and the Japan test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install program and documentation to facilitate use of lab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with or leveraging of other Linux automated test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95C-492C-4C1C-AB99-F4C874CD8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 Weight Siz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unehiro Ikeda (N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keda will describe overview of his examination to make clear config weights(impacts), which means size and memory usage increase by enabling a config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ation tool named "Kconfig Size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examination resul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work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D87-ED12-4160-8FE9-29901E0198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Tim Bird</cp:lastModifiedBy>
  <dcterms:modified xsi:type="dcterms:W3CDTF">2006-07-21T23:00:04Z</dcterms:modified>
  <cp:revision>12</cp:revision>
  <dc:subject/>
  <dc:title>PowerPoint Presentation</dc:title>
</cp:coreProperties>
</file>